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08E99-BAAD-4556-859F-313C06E8C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3569B-9363-4638-BA97-E0C86C653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A781C-5709-4BDE-A7D3-4F8A6D3BC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3DEA0-82D7-4EEB-802F-9392B88A2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4E767-9628-4450-B9C5-76CE1CAA0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898CF-6FBF-47AF-A2C4-5B78199E7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999EC-586C-4AD4-8A3E-1F0ABF4F4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5BCF9-1305-4E40-89EE-A68FBA254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A982A-2236-4F20-A817-783A48B16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269E2-5312-4477-8A8E-0AA73CC40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15962-E1C5-44F3-A716-2E9FFB111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9FD3A-ECD7-4E45-891F-1810BAC55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12867-3F1B-4737-8841-766C42A1A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ECFB2-93A4-4B0D-87E6-891ED36F7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FA045-C1B2-4B7C-81D4-03481D567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4E14A-4E83-4271-B2B6-491504644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8CC36-B07A-4355-8222-CFC8EB726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A208-2E83-49C6-B76F-1415B5F34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5F41E-E5CF-4595-8437-34AD695B8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02924-AF50-463B-A023-0DCF70880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CC07-89F1-46DC-A4D7-4F1AED8B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C5E00-D796-4807-B8CC-C893E21E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E6FA-FC46-4A47-86FB-3A4E814F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E90E-8046-48A1-8BB4-B6707F7F0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F26B-3835-46B3-9FE3-A9F20F5F06B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5A06-1CC3-4F0A-9497-A7B36C884A7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virtualsalt.com/antiplag.htm"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Plagiarism…</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d How to Avoid I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0-2</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1-2</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ou must document facts that are not generally known and ideas that interpret fact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According to the American Family Leave Coalition's new book, Family Issues and Congress, President Bush's relationship with Congress has hindered family leave legislation” (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idea that "Bush's relationship with Congress has hindered family leave legislation" is not a fact but an </a:t>
            </a:r>
            <a:r>
              <a:rPr b="1" i="1" lang="en-US" sz="3200" spc="-1" strike="noStrike">
                <a:solidFill>
                  <a:srgbClr val="292929"/>
                </a:solidFill>
                <a:latin typeface="Arial"/>
              </a:rPr>
              <a:t>interpretation</a:t>
            </a:r>
            <a:r>
              <a:rPr b="1" lang="en-US" sz="3200" spc="-1" strike="noStrike">
                <a:solidFill>
                  <a:srgbClr val="292929"/>
                </a:solidFill>
                <a:latin typeface="Arial"/>
              </a:rPr>
              <a:t>; consequently, you need to cite your sourc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1. Put in </a:t>
            </a:r>
            <a:r>
              <a:rPr b="1" i="1" lang="en-US" sz="3200" spc="-1" strike="noStrike">
                <a:solidFill>
                  <a:srgbClr val="292929"/>
                </a:solidFill>
                <a:latin typeface="Arial"/>
              </a:rPr>
              <a:t>quotations</a:t>
            </a:r>
            <a:r>
              <a:rPr b="1" lang="en-US" sz="3200" spc="-1" strike="noStrike">
                <a:solidFill>
                  <a:srgbClr val="292929"/>
                </a:solidFill>
                <a:latin typeface="Arial"/>
              </a:rPr>
              <a:t> everything that comes directly from the text, especially when taking not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2. Paraphrase the text, but be sure you are not just rearranging or replacing a few words.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Instead, read over what you want to paraphrase carefully; cover up the text with your hand, or close the text so you can't see any of it (and so aren't tempted to use the text as a "guide"). Write out the idea in your own words without peek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67" dur="1000"/>
                                        <p:tgtEl>
                                          <p:spTgt spid="119">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72" dur="1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3. Check your paraphrase against the original text to be sure you have not accidentally used the same phrases or words, and that the information is accurate.</a:t>
            </a:r>
            <a:endParaRPr b="0" lang="en-US" sz="3200" spc="-1" strike="noStrike">
              <a:solidFill>
                <a:srgbClr val="292929"/>
              </a:solidFill>
              <a:latin typeface="Arial"/>
            </a:endParaRPr>
          </a:p>
        </p:txBody>
      </p:sp>
      <p:sp>
        <p:nvSpPr>
          <p:cNvPr id="121" name="PlaceHolder 2"/>
          <p:cNvSpPr>
            <a:spLocks noGrp="1"/>
          </p:cNvSpPr>
          <p:nvPr>
            <p:ph type="title"/>
          </p:nvPr>
        </p:nvSpPr>
        <p:spPr>
          <a:xfrm>
            <a:off x="838080" y="96480"/>
            <a:ext cx="74678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 i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s word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en you quote, place the passage you are using in quotation marks, and document the source according to a standard documentation style. </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9" dur="2000"/>
                                        <p:tgtEl>
                                          <p:spTgt spid="12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4"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According to Peter S. Pritchard in </a:t>
            </a:r>
            <a:r>
              <a:rPr b="1" i="1" lang="en-US" sz="3200" spc="-1" strike="noStrike">
                <a:solidFill>
                  <a:srgbClr val="292929"/>
                </a:solidFill>
                <a:latin typeface="Arial"/>
              </a:rPr>
              <a:t>USA Today</a:t>
            </a:r>
            <a:r>
              <a:rPr b="1" lang="en-US" sz="3200" spc="-1" strike="noStrike">
                <a:solidFill>
                  <a:srgbClr val="292929"/>
                </a:solidFill>
                <a:latin typeface="Arial"/>
              </a:rPr>
              <a:t>, "Public schools need reform but they're irreplaceable in teaching all the nation's young" (14).</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 is…</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using someone's ideas, but putting them in your own word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This is probably the skill you will use most when incorporating sources into your wri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lthough you use your own words to paraphrase, you must still acknowledge the source of the inform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91" dur="500"/>
                                        <p:tgtEl>
                                          <p:spTgt spid="12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6" dur="500"/>
                                        <p:tgtEl>
                                          <p:spTgt spid="12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In Alan Walker's book </a:t>
            </a:r>
            <a:r>
              <a:rPr b="1" i="1" lang="en-US" sz="3200" spc="-1" strike="noStrike">
                <a:solidFill>
                  <a:srgbClr val="292929"/>
                </a:solidFill>
                <a:latin typeface="Arial"/>
              </a:rPr>
              <a:t>Franz Liszt: The Virtuoso Years</a:t>
            </a:r>
            <a:r>
              <a:rPr b="1" lang="en-US" sz="3200" spc="-1" strike="noStrike">
                <a:solidFill>
                  <a:srgbClr val="292929"/>
                </a:solidFill>
                <a:latin typeface="Arial"/>
              </a:rPr>
              <a:t> (Ithaca: 1983), we read that Liszt's father encouraged him, at age six, to play the piano from memory, to sight-read music and, above all, to improvis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 else's words or ideas without giving that person credit either on purpose or through carelessnes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an report in our paper (and in our own words) that Liszt was probably the most gifted of the child prodigies making their mark in Europe in the mid-nineteenth century — because that is the kind of information we could have gotten from a number of sources; it has become what we call common knowledge.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However, if we report on the boy's father's role in the prodigy's development, we should give proper credit to Alan Walk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ould write, for instance, the following: </a:t>
            </a:r>
            <a:r>
              <a:rPr b="1" lang="en-US" sz="2800" spc="-1" strike="noStrike" u="sng">
                <a:solidFill>
                  <a:srgbClr val="292929"/>
                </a:solidFill>
                <a:uFillTx/>
                <a:latin typeface="Arial"/>
              </a:rPr>
              <a:t>Franz Liszt's father encouraged him, as early as age six, to practice skills which later served him as an internationally recognized prodigy (Walker 59).</a:t>
            </a:r>
            <a:r>
              <a:rPr b="1" lang="en-US"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8" dur="1000"/>
                                        <p:tgtEl>
                                          <p:spTgt spid="133">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13"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Or, we could write something like thi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lan Walker notes that, under the tutelage of his father, Franz Liszt began work in earnest on his piano playing at the age of six (59).</a:t>
            </a:r>
            <a:r>
              <a:rPr b="1"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t to give Walker credit for this important information is plagiarism.</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0" dur="1000"/>
                                        <p:tgtEl>
                                          <p:spTgt spid="13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25" dur="1000"/>
                                        <p:tgtEl>
                                          <p:spTgt spid="135">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30" dur="1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
            </a:r>
            <a:r>
              <a:rPr b="0" lang="en-US" sz="1800" spc="-1" strike="noStrike">
                <a:solidFill>
                  <a:srgbClr val="292929"/>
                </a:solidFill>
                <a:latin typeface="Arial"/>
              </a:rPr>
              <a:t>Anti-Plagiarism Strategies for Research Papers” by Robert Harris at http://</a:t>
            </a:r>
            <a:r>
              <a:rPr b="0" lang="en-US" sz="1800" spc="-1" strike="noStrike" u="sng">
                <a:solidFill>
                  <a:srgbClr val="999933"/>
                </a:solidFill>
                <a:uFillTx/>
                <a:latin typeface="Arial"/>
                <a:hlinkClick r:id="rId1"/>
              </a:rPr>
              <a:t>www.virtualsalt.com/antiplag.htm</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apital Community College “Guide to Writing Research Papers” at http://webster.comment.edu/mla/plagiarism.shtml</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iana Writing Center at http://www.indiana.edu/~wts/wts/plagiarism.htm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nce women's wages often continue to reflect the mistaken notion that men are the main wage earners in the family, single mothers rarely make enough to support themselves and their children very well. Also, because work is still based on the assumption that mothers stay home with children, facilities for child care remain woefully inadequate in the United Stat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ere is too much direct borrowing in sentence structure and wording. The writer changes some words, drops one phrase, and adds some new language, but the overall text closely resembles May's. Even with a citation, the writer is still plagiarizing because the lack of quotation marks indicates that Version A is a paraphrase, and should thus be in the writer's own languag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 Elaine Tyler May points out, "women's wages often continue to reflect the fiction that men earn the family wage" (588). Thus many single mothers cannot support themselves and their children adequately. Furthermore, since work is based on the assumption that mothers stay home with children, facilities for day care in this country are still "woefully inadequate." (May 589).</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a:t>
            </a:r>
            <a:r>
              <a:rPr b="0" lang="en-US" sz="3200" spc="-1" strike="noStrike">
                <a:solidFill>
                  <a:srgbClr val="292929"/>
                </a:solidFill>
                <a:latin typeface="Arial"/>
              </a:rPr>
              <a:t> The writer now cites May, so we're closer to telling the truth about our text's relationship to the source, but this text continues to borrow too much langua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vising, paraphrasing, or using the ideas of someone else without giving them credi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y and large, our economy still operates on the mistaken notion that men are the main breadwinners in the family. Thus, women continue to earn lower wages than men. This means, in effect, that many single mothers cannot earn a decent living. Furthermore, adequate day care is not available in the United States because of the mistaken assumption that mothers remain at home with their childre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is shows good paraphrasing of wording and sentence structure, but May's original ideas are not acknowledged. Some of May's points are common knowledge (women earn less than men, many single mothers live in poverty), but May uses this common knowledge to make a specific and original point and her original conception of this idea is not acknowledg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omen today still earn less than men — so much less that many single mothers and their children live near or below the poverty line. Elaine Tyler May argues that this situation stems in part from "the fiction that men earn the family wage" (588). May further suggests that the American workplace still operates on the assumption that mothers with children stay home to care for them (589).  This assumption, in my opinion, does not have the force it once did. More and more businesses offer in-house day-care facilities. . . .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makes use of the common knowledge in May's work, but acknowledges May's original conclusion and does not try to pass it off as his or her own. The quotation is properly cited, as is a later paraphrase of another of May's idea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increase of industry, the growth of cities, and the explosion of the population were three large factors of nineteenth century America. As steam-driven companies became more visible in the eastern part of the country, they changed farm hands into factory workers and provided jobs for the large wave of immigrants. With industry came the growth of large cities like Fall River where the Bordens lived which turned into centers of commerce and trade as well as produc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 </a:t>
            </a:r>
            <a:r>
              <a:rPr b="0" lang="en-US" sz="3200" spc="-1" strike="noStrike">
                <a:solidFill>
                  <a:srgbClr val="292929"/>
                </a:solidFill>
                <a:latin typeface="Arial"/>
              </a:rPr>
              <a:t>The writer has only changed around a few words and phrases, or changed the order of the original's sentences. The writer has failed to cite a source for any of the ideas or facts. It changes the sense of several sentences (for example, "steam-driven companies" in sentence two misses the original's emphasis on factori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2975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99"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ritten or spoken material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formation taken from whole papers and paragraphs, sentences, or phra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 dur="1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Steam-powered production had shifted labor from agriculture to manufacturing, and as immigrants arrived in the US, they found work in these new factories. As a result, populations grew, and large urban areas arose. Fall River was one of these manufacturing and commercial centers (Williams 1).</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accurately relays the information in the original quote, </a:t>
            </a:r>
            <a:br>
              <a:rPr sz="3200"/>
            </a:br>
            <a:r>
              <a:rPr b="0" lang="en-US" sz="3200" spc="-1" strike="noStrike">
                <a:solidFill>
                  <a:srgbClr val="292929"/>
                </a:solidFill>
                <a:latin typeface="Arial"/>
              </a:rPr>
              <a:t>uses her own words, and lets her reader know the source of her information.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As steam-powered production shifted labor from agriculture to manufacturing, the demand for workers "transformed farm hands into factory workers," and created jobs for immigrants. In turn, growing populations increased the size of urban areas. Fall River was one of these manufacturing hubs that were also "centers of commerce and trade" (Williams 1)</a:t>
            </a:r>
            <a:br>
              <a:rPr sz="2400"/>
            </a:br>
            <a:r>
              <a:rPr b="1"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a:t>
            </a:r>
            <a:r>
              <a:rPr b="1" lang="en-US" sz="3200" spc="-1" strike="noStrike">
                <a:solidFill>
                  <a:srgbClr val="292929"/>
                </a:solidFill>
                <a:latin typeface="Arial"/>
              </a:rPr>
              <a:t> The writer records the information in the original passage accurately, gives credit for the ideas in this passage, and indicates which part is taken directly from her source by putting the passage in quotation marks and citing the page number.</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Note that if the writer had used these phrases or sentences in her own paper without putting quotation marks around them, she would be PLAGIARIZING. Using another person's phrases or sentences without putting quotation marks around them is considered plagiarism </a:t>
            </a:r>
            <a:r>
              <a:rPr b="0" lang="en-US" sz="2800" spc="-1" strike="noStrike">
                <a:solidFill>
                  <a:srgbClr val="292929"/>
                </a:solidFill>
                <a:latin typeface="Arial"/>
              </a:rPr>
              <a:t>EVEN IF THE WRITER CITES IN HER OWN TEXT THE SOURCE OF THE PHRASES OR SENTENCES SHE HAS QUOT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373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tistics, graphs, lab results, art work, etc.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y piece of information that is not common knowled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9" dur="10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4" dur="1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rofessional source, such as a published writer or critic in a book, magazine, encyclopedia, or journ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 electronic resource such as material on the interne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1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6"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5"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other student, a friend, a relative, et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aper-writing "service" (online or otherwise) which offers to sell written papers for a fee or offers papers for fr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3" dur="1000"/>
                                        <p:tgtEl>
                                          <p:spTgt spid="10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8"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Common knowledge</a:t>
            </a:r>
            <a:r>
              <a:rPr b="1" lang="en-US" sz="3200" spc="-1" strike="noStrike">
                <a:solidFill>
                  <a:srgbClr val="292929"/>
                </a:solidFill>
                <a:latin typeface="Arial"/>
              </a:rPr>
              <a:t> represents any facts that can be found in numerous places and are likely to be known by a lot of peopl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John F. Kennedy was elected President of the United States in 1960.</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is is generally known information. You do not need to document this fact.</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5" dur="500"/>
                                        <p:tgtEl>
                                          <p:spTgt spid="109">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9">
                                            <p:txEl>
                                              <p:pRg st="1" end="1"/>
                                            </p:txEl>
                                          </p:spTgt>
                                        </p:tgtEl>
                                        <p:attrNameLst>
                                          <p:attrName>style.visibility</p:attrName>
                                        </p:attrNameLst>
                                      </p:cBhvr>
                                      <p:to>
                                        <p:strVal val="visible"/>
                                      </p:to>
                                    </p:set>
                                    <p:animEffect filter="fade" transition="in">
                                      <p:cBhvr additive="repl">
                                        <p:cTn id="6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09:11Z</dcterms:created>
  <dc:creator>Jeff Nienaber</dc:creator>
  <dc:description/>
  <dc:language>en-US</dc:language>
  <cp:lastModifiedBy>Jeff Nienaber</cp:lastModifiedBy>
  <dcterms:modified xsi:type="dcterms:W3CDTF">2008-10-21T02:34:55Z</dcterms:modified>
  <cp:revision>5</cp:revision>
  <dc:subject/>
  <dc:title>What is Plagiarism…</dc:title>
</cp:coreProperties>
</file>